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27A-61BA-422E-949D-F90ACA12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F01-CC6A-4AB3-A5AA-41AD9A10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348-9D59-42FF-BA20-E0C1D8F0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6BB-D427-491A-93D8-F2067D5C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F727-649F-4776-AB49-D881591C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962D-B746-40FD-90D2-10BB632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F9DE-897D-49A0-BADE-936AA031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EAD8-B950-46F7-A9DD-0B3A3842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5D1D-90E9-4339-83B2-FB8884F0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97C2-13D0-4DA7-B18E-0CD7BE3D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8ABF-833B-4193-9EFF-9665E9CD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872-1DDD-4CD0-A55D-8A7D9961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8401-78AC-4C9D-87AE-31B8B675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C4F6-F308-4CE4-80B9-758CA09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2531-6134-420E-BEE2-96DD97B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B67D-C81F-488D-8FEF-5DBACA7F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50C-4BEC-4866-9697-97FCDAF0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74755-92C7-406B-9339-357D1657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DBDBD-22A4-498D-AB0E-E3C4D71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50F17-4BD0-4990-BF9D-47583F51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BA114-AAA5-46EB-A2D9-D129D47F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74C6A-B65A-42F3-B731-7C000442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1F2-ED16-4760-94B1-9F3E1336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7DB52-B86A-4CB0-BAAF-E0F14BB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BF86C-5508-4F2C-A3FC-694161E4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42478-0A2A-45BC-9D9F-E1403EA0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9E4C5-F298-46C8-BDAB-F6DF5E7A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6001C-C117-42EE-830E-D55E7025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CEB95-29C3-47C4-8712-8F5F51F4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D8512-601B-4754-B731-68573A6B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64F0-C3B1-4AE7-A15B-D0354441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ECC1-00D2-4ADC-81B4-7AD5398D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E578-CAC0-4221-BF45-C89FB13E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77F-1D5C-4AFE-8DB7-6371D578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A5B41-C983-4FF8-9492-8CE514FB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DC8F-EA2D-4BCC-9CFA-094B9BD2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F5A8-7232-43CA-8232-FA5A1591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2A0B-FFC8-4AC7-A616-145349C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61A6-3CC0-41CE-A8D0-628B1582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C57F-F482-43B3-9E28-B734343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2515-8180-4C76-B9D0-3D07DBDA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EA7A-FAFF-49BF-ACB0-53A95537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38771-653D-4AC2-982E-47532159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543-C9B1-4BC1-B1A8-6A8AC610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262-F2B1-40AF-8C4A-4854A5B5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9C6-C16D-4F07-A9E0-C8731B3B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48B-D74C-4F9C-A213-5FDA619F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0D1-D020-4407-A268-CA2F8FB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9A30-C40C-4687-91C5-2DD6CA4D4B7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6FC6-C20E-4033-B655-36C0BFACFD0B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C957-A1AA-4EB8-B2A0-55558E808D55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7F95-967A-4706-832E-0EE6DB2EC028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ole powierzchni graniastosłupa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6" descr="rectangular_prism_tall"/>
          <p:cNvPicPr/>
          <p:nvPr/>
        </p:nvPicPr>
        <p:blipFill>
          <a:blip r:embed="rId1"/>
          <a:stretch/>
        </p:blipFill>
        <p:spPr>
          <a:xfrm>
            <a:off x="1042920" y="4724280"/>
            <a:ext cx="1490760" cy="18558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0"/>
          <p:cNvGrpSpPr/>
          <p:nvPr/>
        </p:nvGrpSpPr>
        <p:grpSpPr>
          <a:xfrm>
            <a:off x="3502800" y="4068720"/>
            <a:ext cx="1245600" cy="2097360"/>
            <a:chOff x="3502800" y="4068720"/>
            <a:chExt cx="1245600" cy="2097360"/>
          </a:xfrm>
        </p:grpSpPr>
        <p:sp>
          <p:nvSpPr>
            <p:cNvPr id="217" name="AutoShape 27"/>
            <p:cNvSpPr/>
            <p:nvPr/>
          </p:nvSpPr>
          <p:spPr>
            <a:xfrm>
              <a:off x="3513240" y="4068720"/>
              <a:ext cx="1225440" cy="863640"/>
            </a:xfrm>
            <a:prstGeom prst="pentagon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AutoShape 34"/>
            <p:cNvCxnSpPr>
              <a:stCxn id="217" idx="0"/>
            </p:cNvCxnSpPr>
            <p:nvPr/>
          </p:nvCxnSpPr>
          <p:spPr>
            <a:xfrm>
              <a:off x="4125960" y="4068720"/>
              <a:ext cx="720" cy="1215360"/>
            </a:xfrm>
            <a:prstGeom prst="straightConnector1">
              <a:avLst/>
            </a:prstGeom>
            <a:ln w="936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19" name="AutoShape 35"/>
            <p:cNvCxnSpPr>
              <a:stCxn id="217" idx="1"/>
            </p:cNvCxnSpPr>
            <p:nvPr/>
          </p:nvCxnSpPr>
          <p:spPr>
            <a:xfrm flipH="1">
              <a:off x="3503880" y="4398840"/>
              <a:ext cx="9720" cy="122472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0" name="AutoShape 36"/>
            <p:cNvCxnSpPr>
              <a:stCxn id="217" idx="2"/>
            </p:cNvCxnSpPr>
            <p:nvPr/>
          </p:nvCxnSpPr>
          <p:spPr>
            <a:xfrm flipH="1">
              <a:off x="3751560" y="4932360"/>
              <a:ext cx="1800" cy="123408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1" name="AutoShape 37"/>
            <p:cNvCxnSpPr>
              <a:stCxn id="217" idx="4"/>
            </p:cNvCxnSpPr>
            <p:nvPr/>
          </p:nvCxnSpPr>
          <p:spPr>
            <a:xfrm>
              <a:off x="4498920" y="4932360"/>
              <a:ext cx="3960" cy="123408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2" name="AutoShape 38"/>
            <p:cNvCxnSpPr>
              <a:stCxn id="217" idx="5"/>
            </p:cNvCxnSpPr>
            <p:nvPr/>
          </p:nvCxnSpPr>
          <p:spPr>
            <a:xfrm>
              <a:off x="4738680" y="4398840"/>
              <a:ext cx="10080" cy="122472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3" name="AutoShape 40"/>
            <p:cNvCxnSpPr/>
            <p:nvPr/>
          </p:nvCxnSpPr>
          <p:spPr>
            <a:xfrm flipH="1">
              <a:off x="3502800" y="5283000"/>
              <a:ext cx="623160" cy="340200"/>
            </a:xfrm>
            <a:prstGeom prst="straightConnector1">
              <a:avLst/>
            </a:prstGeom>
            <a:ln w="1260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24" name="AutoShape 42"/>
            <p:cNvCxnSpPr/>
            <p:nvPr/>
          </p:nvCxnSpPr>
          <p:spPr>
            <a:xfrm>
              <a:off x="4125960" y="5283000"/>
              <a:ext cx="622800" cy="340200"/>
            </a:xfrm>
            <a:prstGeom prst="straightConnector1">
              <a:avLst/>
            </a:prstGeom>
            <a:ln w="1260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25" name="AutoShape 43"/>
            <p:cNvCxnSpPr/>
            <p:nvPr/>
          </p:nvCxnSpPr>
          <p:spPr>
            <a:xfrm>
              <a:off x="3503520" y="5622840"/>
              <a:ext cx="248400" cy="54360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  <p:cxnSp>
          <p:nvCxnSpPr>
            <p:cNvPr id="226" name="AutoShape 44"/>
            <p:cNvCxnSpPr/>
            <p:nvPr/>
          </p:nvCxnSpPr>
          <p:spPr>
            <a:xfrm>
              <a:off x="3751200" y="6165360"/>
              <a:ext cx="750240" cy="108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  <p:cxnSp>
          <p:nvCxnSpPr>
            <p:cNvPr id="227" name="AutoShape 45"/>
            <p:cNvCxnSpPr/>
            <p:nvPr/>
          </p:nvCxnSpPr>
          <p:spPr>
            <a:xfrm flipV="1">
              <a:off x="4500360" y="5622480"/>
              <a:ext cx="248040" cy="54360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</p:grpSp>
      <p:grpSp>
        <p:nvGrpSpPr>
          <p:cNvPr id="228" name="Group 52"/>
          <p:cNvGrpSpPr/>
          <p:nvPr/>
        </p:nvGrpSpPr>
        <p:grpSpPr>
          <a:xfrm>
            <a:off x="7956720" y="5011560"/>
            <a:ext cx="1007640" cy="1656000"/>
            <a:chOff x="7956720" y="5011560"/>
            <a:chExt cx="1007640" cy="1656000"/>
          </a:xfrm>
        </p:grpSpPr>
        <p:pic>
          <p:nvPicPr>
            <p:cNvPr id="229" name="Picture 25" descr="Rectangular prism"/>
            <p:cNvPicPr/>
            <p:nvPr/>
          </p:nvPicPr>
          <p:blipFill>
            <a:blip r:embed="rId2"/>
            <a:srcRect l="33273" t="0" r="27468" b="22271"/>
            <a:stretch/>
          </p:blipFill>
          <p:spPr>
            <a:xfrm>
              <a:off x="7956720" y="5011560"/>
              <a:ext cx="934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Oval 51"/>
            <p:cNvSpPr/>
            <p:nvPr/>
          </p:nvSpPr>
          <p:spPr>
            <a:xfrm>
              <a:off x="8820000" y="6451560"/>
              <a:ext cx="144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50"/>
          <p:cNvGrpSpPr/>
          <p:nvPr/>
        </p:nvGrpSpPr>
        <p:grpSpPr>
          <a:xfrm>
            <a:off x="5292360" y="5403960"/>
            <a:ext cx="681840" cy="1149480"/>
            <a:chOff x="5292360" y="5403960"/>
            <a:chExt cx="681840" cy="1149480"/>
          </a:xfrm>
        </p:grpSpPr>
        <p:sp>
          <p:nvSpPr>
            <p:cNvPr id="232" name="AutoShape 27"/>
            <p:cNvSpPr/>
            <p:nvPr/>
          </p:nvSpPr>
          <p:spPr>
            <a:xfrm>
              <a:off x="5297760" y="5403960"/>
              <a:ext cx="670680" cy="473040"/>
            </a:xfrm>
            <a:prstGeom prst="pentagon">
              <a:avLst/>
            </a:prstGeom>
            <a:solidFill>
              <a:srgbClr val="ffffff"/>
            </a:solidFill>
            <a:ln w="19080">
              <a:solidFill>
                <a:srgbClr val="5c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AutoShape 34"/>
            <p:cNvCxnSpPr>
              <a:stCxn id="232" idx="0"/>
            </p:cNvCxnSpPr>
            <p:nvPr/>
          </p:nvCxnSpPr>
          <p:spPr>
            <a:xfrm>
              <a:off x="5633280" y="5403960"/>
              <a:ext cx="720" cy="66600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4" name="AutoShape 35"/>
            <p:cNvCxnSpPr>
              <a:stCxn id="232" idx="1"/>
            </p:cNvCxnSpPr>
            <p:nvPr/>
          </p:nvCxnSpPr>
          <p:spPr>
            <a:xfrm flipH="1">
              <a:off x="5293080" y="5584680"/>
              <a:ext cx="5040" cy="67104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5" name="AutoShape 36"/>
            <p:cNvCxnSpPr>
              <a:stCxn id="232" idx="2"/>
            </p:cNvCxnSpPr>
            <p:nvPr/>
          </p:nvCxnSpPr>
          <p:spPr>
            <a:xfrm flipH="1">
              <a:off x="5428440" y="5877000"/>
              <a:ext cx="1080" cy="67644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6" name="AutoShape 37"/>
            <p:cNvCxnSpPr>
              <a:stCxn id="232" idx="4"/>
            </p:cNvCxnSpPr>
            <p:nvPr/>
          </p:nvCxnSpPr>
          <p:spPr>
            <a:xfrm>
              <a:off x="5837040" y="5877000"/>
              <a:ext cx="2880" cy="67644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7" name="AutoShape 38"/>
            <p:cNvCxnSpPr>
              <a:stCxn id="232" idx="5"/>
            </p:cNvCxnSpPr>
            <p:nvPr/>
          </p:nvCxnSpPr>
          <p:spPr>
            <a:xfrm>
              <a:off x="5968440" y="5584680"/>
              <a:ext cx="6120" cy="67104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8" name="AutoShape 40"/>
            <p:cNvCxnSpPr/>
            <p:nvPr/>
          </p:nvCxnSpPr>
          <p:spPr>
            <a:xfrm flipH="1">
              <a:off x="5292360" y="6069600"/>
              <a:ext cx="341280" cy="1864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9" name="AutoShape 42"/>
            <p:cNvCxnSpPr/>
            <p:nvPr/>
          </p:nvCxnSpPr>
          <p:spPr>
            <a:xfrm>
              <a:off x="5632920" y="6069600"/>
              <a:ext cx="340920" cy="1864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40" name="AutoShape 43"/>
            <p:cNvCxnSpPr/>
            <p:nvPr/>
          </p:nvCxnSpPr>
          <p:spPr>
            <a:xfrm>
              <a:off x="5292720" y="6255720"/>
              <a:ext cx="136080" cy="2980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41" name="AutoShape 44"/>
            <p:cNvCxnSpPr/>
            <p:nvPr/>
          </p:nvCxnSpPr>
          <p:spPr>
            <a:xfrm>
              <a:off x="5427720" y="6552720"/>
              <a:ext cx="410760" cy="10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42" name="AutoShape 45"/>
            <p:cNvCxnSpPr/>
            <p:nvPr/>
          </p:nvCxnSpPr>
          <p:spPr>
            <a:xfrm flipV="1">
              <a:off x="5838480" y="6255360"/>
              <a:ext cx="136080" cy="2980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</p:grpSp>
      <p:grpSp>
        <p:nvGrpSpPr>
          <p:cNvPr id="243" name="Group 50"/>
          <p:cNvGrpSpPr/>
          <p:nvPr/>
        </p:nvGrpSpPr>
        <p:grpSpPr>
          <a:xfrm>
            <a:off x="6235200" y="5688720"/>
            <a:ext cx="1465560" cy="871200"/>
            <a:chOff x="6235200" y="5688720"/>
            <a:chExt cx="1465560" cy="871200"/>
          </a:xfrm>
        </p:grpSpPr>
        <p:sp>
          <p:nvSpPr>
            <p:cNvPr id="244" name="AutoShape 27"/>
            <p:cNvSpPr/>
            <p:nvPr/>
          </p:nvSpPr>
          <p:spPr>
            <a:xfrm rot="5400000">
              <a:off x="6970680" y="5822640"/>
              <a:ext cx="856800" cy="603360"/>
            </a:xfrm>
            <a:prstGeom prst="pentagon">
              <a:avLst/>
            </a:prstGeom>
            <a:solidFill>
              <a:srgbClr val="ffffff"/>
            </a:solidFill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AutoShape 34"/>
            <p:cNvCxnSpPr>
              <a:stCxn id="244" idx="0"/>
            </p:cNvCxnSpPr>
            <p:nvPr/>
          </p:nvCxnSpPr>
          <p:spPr>
            <a:xfrm flipH="1">
              <a:off x="6852240" y="6124320"/>
              <a:ext cx="848880" cy="10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46" name="AutoShape 35"/>
            <p:cNvCxnSpPr>
              <a:stCxn id="244" idx="1"/>
            </p:cNvCxnSpPr>
            <p:nvPr/>
          </p:nvCxnSpPr>
          <p:spPr>
            <a:xfrm flipH="1" flipV="1">
              <a:off x="6615360" y="5689800"/>
              <a:ext cx="855000" cy="64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47" name="AutoShape 36"/>
            <p:cNvCxnSpPr>
              <a:stCxn id="244" idx="2"/>
            </p:cNvCxnSpPr>
            <p:nvPr/>
          </p:nvCxnSpPr>
          <p:spPr>
            <a:xfrm flipH="1" flipV="1">
              <a:off x="6235920" y="5862960"/>
              <a:ext cx="861840" cy="10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48" name="AutoShape 37"/>
            <p:cNvCxnSpPr>
              <a:stCxn id="244" idx="4"/>
            </p:cNvCxnSpPr>
            <p:nvPr/>
          </p:nvCxnSpPr>
          <p:spPr>
            <a:xfrm flipH="1">
              <a:off x="6235920" y="6384960"/>
              <a:ext cx="861840" cy="28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49" name="AutoShape 38"/>
            <p:cNvCxnSpPr>
              <a:stCxn id="244" idx="5"/>
            </p:cNvCxnSpPr>
            <p:nvPr/>
          </p:nvCxnSpPr>
          <p:spPr>
            <a:xfrm flipH="1">
              <a:off x="6615360" y="6552720"/>
              <a:ext cx="855000" cy="756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0" name="AutoShape 40"/>
            <p:cNvCxnSpPr/>
            <p:nvPr/>
          </p:nvCxnSpPr>
          <p:spPr>
            <a:xfrm flipH="1" flipV="1">
              <a:off x="6615000" y="5688720"/>
              <a:ext cx="237600" cy="43596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1" name="AutoShape 42"/>
            <p:cNvCxnSpPr/>
            <p:nvPr/>
          </p:nvCxnSpPr>
          <p:spPr>
            <a:xfrm flipH="1">
              <a:off x="6615000" y="6124680"/>
              <a:ext cx="237600" cy="43560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2" name="AutoShape 43"/>
            <p:cNvCxnSpPr/>
            <p:nvPr/>
          </p:nvCxnSpPr>
          <p:spPr>
            <a:xfrm flipH="1">
              <a:off x="6235920" y="5689080"/>
              <a:ext cx="379800" cy="1738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3" name="AutoShape 44"/>
            <p:cNvCxnSpPr/>
            <p:nvPr/>
          </p:nvCxnSpPr>
          <p:spPr>
            <a:xfrm flipH="1">
              <a:off x="6235200" y="5862240"/>
              <a:ext cx="1080" cy="52416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4" name="AutoShape 45"/>
            <p:cNvCxnSpPr/>
            <p:nvPr/>
          </p:nvCxnSpPr>
          <p:spPr>
            <a:xfrm>
              <a:off x="6236280" y="6386400"/>
              <a:ext cx="379800" cy="17352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05264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Pole powierzchni graniastosłupa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57" name="AutoShape 28"/>
          <p:cNvGrpSpPr/>
          <p:nvPr/>
        </p:nvGrpSpPr>
        <p:grpSpPr>
          <a:xfrm>
            <a:off x="115920" y="1719360"/>
            <a:ext cx="4230720" cy="1457280"/>
            <a:chOff x="115920" y="1719360"/>
            <a:chExt cx="4230720" cy="1457280"/>
          </a:xfrm>
        </p:grpSpPr>
        <p:pic>
          <p:nvPicPr>
            <p:cNvPr id="258" name="AutoShape 28" descr=""/>
            <p:cNvPicPr/>
            <p:nvPr/>
          </p:nvPicPr>
          <p:blipFill>
            <a:blip r:embed="rId2"/>
            <a:stretch/>
          </p:blipFill>
          <p:spPr>
            <a:xfrm>
              <a:off x="115920" y="1719360"/>
              <a:ext cx="42307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79280" y="1773360"/>
              <a:ext cx="410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Pole powierzchni graniastosłupa jest sumą pól dwóch podstaw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44"/>
          <p:cNvGrpSpPr/>
          <p:nvPr/>
        </p:nvGrpSpPr>
        <p:grpSpPr>
          <a:xfrm>
            <a:off x="1560600" y="4406760"/>
            <a:ext cx="3359160" cy="835200"/>
            <a:chOff x="1560600" y="4406760"/>
            <a:chExt cx="3359160" cy="835200"/>
          </a:xfrm>
        </p:grpSpPr>
        <p:pic>
          <p:nvPicPr>
            <p:cNvPr id="261" name="AutoShape 44" descr=""/>
            <p:cNvPicPr/>
            <p:nvPr/>
          </p:nvPicPr>
          <p:blipFill>
            <a:blip r:embed="rId3"/>
            <a:stretch/>
          </p:blipFill>
          <p:spPr>
            <a:xfrm>
              <a:off x="1560600" y="4406760"/>
              <a:ext cx="3359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619280" y="4724280"/>
              <a:ext cx="3240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Georgia"/>
                </a:rPr>
                <a:t>I pól ścian bocz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76"/>
          <p:cNvSpPr/>
          <p:nvPr/>
        </p:nvSpPr>
        <p:spPr>
          <a:xfrm>
            <a:off x="5580000" y="1125360"/>
            <a:ext cx="2595600" cy="1828800"/>
          </a:xfrm>
          <a:prstGeom prst="pentagon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AutoShape 77"/>
          <p:cNvCxnSpPr>
            <a:stCxn id="263" idx="0"/>
          </p:cNvCxnSpPr>
          <p:nvPr/>
        </p:nvCxnSpPr>
        <p:spPr>
          <a:xfrm>
            <a:off x="6878160" y="1106280"/>
            <a:ext cx="1080" cy="2594520"/>
          </a:xfrm>
          <a:prstGeom prst="straightConnector1">
            <a:avLst/>
          </a:prstGeom>
          <a:ln w="38160">
            <a:solidFill>
              <a:srgbClr val="33cc33"/>
            </a:solidFill>
            <a:prstDash val="dash"/>
            <a:miter/>
          </a:ln>
        </p:spPr>
      </p:cxnSp>
      <p:cxnSp>
        <p:nvCxnSpPr>
          <p:cNvPr id="265" name="AutoShape 78"/>
          <p:cNvCxnSpPr>
            <a:stCxn id="263" idx="1"/>
          </p:cNvCxnSpPr>
          <p:nvPr/>
        </p:nvCxnSpPr>
        <p:spPr>
          <a:xfrm>
            <a:off x="5560560" y="1823760"/>
            <a:ext cx="1080" cy="259452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66" name="AutoShape 79"/>
          <p:cNvCxnSpPr>
            <a:stCxn id="263" idx="2"/>
          </p:cNvCxnSpPr>
          <p:nvPr/>
        </p:nvCxnSpPr>
        <p:spPr>
          <a:xfrm>
            <a:off x="6084360" y="2973240"/>
            <a:ext cx="1080" cy="259488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67" name="AutoShape 80"/>
          <p:cNvCxnSpPr>
            <a:stCxn id="263" idx="4"/>
          </p:cNvCxnSpPr>
          <p:nvPr/>
        </p:nvCxnSpPr>
        <p:spPr>
          <a:xfrm>
            <a:off x="7670520" y="2973240"/>
            <a:ext cx="5400" cy="259488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68" name="AutoShape 81"/>
          <p:cNvCxnSpPr>
            <a:stCxn id="263" idx="5"/>
          </p:cNvCxnSpPr>
          <p:nvPr/>
        </p:nvCxnSpPr>
        <p:spPr>
          <a:xfrm>
            <a:off x="8194320" y="1823760"/>
            <a:ext cx="1080" cy="259452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69" name="AutoShape 82"/>
          <p:cNvCxnSpPr/>
          <p:nvPr/>
        </p:nvCxnSpPr>
        <p:spPr>
          <a:xfrm flipH="1">
            <a:off x="5556960" y="3698640"/>
            <a:ext cx="1320120" cy="719640"/>
          </a:xfrm>
          <a:prstGeom prst="straightConnector1">
            <a:avLst/>
          </a:prstGeom>
          <a:ln w="38160">
            <a:solidFill>
              <a:srgbClr val="33cc33"/>
            </a:solidFill>
            <a:prstDash val="dash"/>
            <a:miter/>
          </a:ln>
        </p:spPr>
      </p:cxnSp>
      <p:cxnSp>
        <p:nvCxnSpPr>
          <p:cNvPr id="270" name="AutoShape 83"/>
          <p:cNvCxnSpPr/>
          <p:nvPr/>
        </p:nvCxnSpPr>
        <p:spPr>
          <a:xfrm>
            <a:off x="6877080" y="3698640"/>
            <a:ext cx="1318320" cy="719640"/>
          </a:xfrm>
          <a:prstGeom prst="straightConnector1">
            <a:avLst/>
          </a:prstGeom>
          <a:ln w="38160">
            <a:solidFill>
              <a:srgbClr val="33cc33"/>
            </a:solidFill>
            <a:prstDash val="dash"/>
            <a:miter/>
          </a:ln>
        </p:spPr>
      </p:cxnSp>
      <p:cxnSp>
        <p:nvCxnSpPr>
          <p:cNvPr id="271" name="AutoShape 84"/>
          <p:cNvCxnSpPr/>
          <p:nvPr/>
        </p:nvCxnSpPr>
        <p:spPr>
          <a:xfrm>
            <a:off x="5557680" y="4417560"/>
            <a:ext cx="526320" cy="115164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72" name="AutoShape 85"/>
          <p:cNvCxnSpPr/>
          <p:nvPr/>
        </p:nvCxnSpPr>
        <p:spPr>
          <a:xfrm>
            <a:off x="6082920" y="5568480"/>
            <a:ext cx="1586520" cy="108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73" name="AutoShape 86"/>
          <p:cNvCxnSpPr/>
          <p:nvPr/>
        </p:nvCxnSpPr>
        <p:spPr>
          <a:xfrm flipV="1">
            <a:off x="7669080" y="4417200"/>
            <a:ext cx="526320" cy="115164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sp>
        <p:nvSpPr>
          <p:cNvPr id="274" name="Text Box 87"/>
          <p:cNvSpPr/>
          <p:nvPr/>
        </p:nvSpPr>
        <p:spPr>
          <a:xfrm>
            <a:off x="1157400" y="3068640"/>
            <a:ext cx="13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9900"/>
                </a:solidFill>
                <a:latin typeface="Trebuchet MS"/>
              </a:rPr>
              <a:t>2 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8"/>
          <p:cNvSpPr/>
          <p:nvPr/>
        </p:nvSpPr>
        <p:spPr>
          <a:xfrm>
            <a:off x="2615760" y="306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9"/>
          <p:cNvSpPr/>
          <p:nvPr/>
        </p:nvSpPr>
        <p:spPr>
          <a:xfrm>
            <a:off x="3160800" y="3068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Trebuchet MS"/>
              </a:rPr>
              <a:t>P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0"/>
          <p:cNvSpPr/>
          <p:nvPr/>
        </p:nvSpPr>
        <p:spPr>
          <a:xfrm>
            <a:off x="237600" y="3068640"/>
            <a:ext cx="98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rebuchet MS"/>
              </a:rPr>
              <a:t>P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1"/>
          <p:cNvSpPr/>
          <p:nvPr/>
        </p:nvSpPr>
        <p:spPr>
          <a:xfrm>
            <a:off x="1517040" y="400536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00"/>
                </a:solidFill>
                <a:latin typeface="Trebuchet MS"/>
              </a:rPr>
              <a:t>Po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00"/>
                </a:solidFill>
                <a:latin typeface="Trebuchet MS"/>
              </a:rPr>
              <a:t>podsta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2"/>
          <p:cNvSpPr/>
          <p:nvPr/>
        </p:nvSpPr>
        <p:spPr>
          <a:xfrm>
            <a:off x="2745360" y="4005360"/>
            <a:ext cx="164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3300"/>
                </a:solidFill>
                <a:latin typeface="Trebuchet MS"/>
              </a:rPr>
              <a:t>Pole powierzch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3300"/>
                </a:solidFill>
                <a:latin typeface="Trebuchet MS"/>
              </a:rPr>
              <a:t>bo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3"/>
          <p:cNvSpPr/>
          <p:nvPr/>
        </p:nvSpPr>
        <p:spPr>
          <a:xfrm rot="5400000">
            <a:off x="1830600" y="3506040"/>
            <a:ext cx="297000" cy="863640"/>
          </a:xfrm>
          <a:custGeom>
            <a:avLst/>
            <a:gdLst>
              <a:gd name="textAreaLeft" fmla="*/ 189720 w 297000"/>
              <a:gd name="textAreaRight" fmla="*/ 297360 w 297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4"/>
          <p:cNvSpPr/>
          <p:nvPr/>
        </p:nvSpPr>
        <p:spPr>
          <a:xfrm rot="5400000">
            <a:off x="3415320" y="3216960"/>
            <a:ext cx="297000" cy="1441440"/>
          </a:xfrm>
          <a:custGeom>
            <a:avLst/>
            <a:gdLst>
              <a:gd name="textAreaLeft" fmla="*/ 189720 w 297000"/>
              <a:gd name="textAreaRight" fmla="*/ 297360 w 29700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5"/>
          <p:cNvSpPr/>
          <p:nvPr/>
        </p:nvSpPr>
        <p:spPr>
          <a:xfrm>
            <a:off x="5580000" y="3716280"/>
            <a:ext cx="2595600" cy="1828800"/>
          </a:xfrm>
          <a:prstGeom prst="pentagon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2"/>
          <p:cNvSpPr/>
          <p:nvPr/>
        </p:nvSpPr>
        <p:spPr>
          <a:xfrm>
            <a:off x="5580000" y="1125360"/>
            <a:ext cx="2595600" cy="1828800"/>
          </a:xfrm>
          <a:prstGeom prst="pentagon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utoShape 130"/>
          <p:cNvGrpSpPr/>
          <p:nvPr/>
        </p:nvGrpSpPr>
        <p:grpSpPr>
          <a:xfrm>
            <a:off x="49320" y="3760920"/>
            <a:ext cx="3790800" cy="2993760"/>
            <a:chOff x="49320" y="3760920"/>
            <a:chExt cx="3790800" cy="2993760"/>
          </a:xfrm>
        </p:grpSpPr>
        <p:pic>
          <p:nvPicPr>
            <p:cNvPr id="285" name="AutoShape 130" descr=""/>
            <p:cNvPicPr/>
            <p:nvPr/>
          </p:nvPicPr>
          <p:blipFill>
            <a:blip r:embed="rId4"/>
            <a:stretch/>
          </p:blipFill>
          <p:spPr>
            <a:xfrm>
              <a:off x="49320" y="3760920"/>
              <a:ext cx="379080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08000" y="5516640"/>
              <a:ext cx="36720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Georgia"/>
                </a:rPr>
                <a:t>Licząc </a:t>
              </a:r>
              <a:r>
                <a:rPr b="0" lang="pl-PL" sz="1600" spc="-1" strike="noStrike">
                  <a:solidFill>
                    <a:srgbClr val="ffffff"/>
                  </a:solidFill>
                  <a:latin typeface="Georgia"/>
                </a:rPr>
                <a:t>pole powierzchni graniastosłup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Georgia"/>
                </a:rPr>
                <a:t>wystarczy policzyć pole dwóch podstaw oraz pole powierzchni bocznej i otrzymane wyniki dodać </a:t>
              </a:r>
              <a:r>
                <a:rPr b="0" lang="pl-PL" sz="1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128"/>
          <p:cNvGrpSpPr/>
          <p:nvPr/>
        </p:nvGrpSpPr>
        <p:grpSpPr>
          <a:xfrm>
            <a:off x="5499000" y="1085760"/>
            <a:ext cx="1438200" cy="3407040"/>
            <a:chOff x="5499000" y="1085760"/>
            <a:chExt cx="1438200" cy="3407040"/>
          </a:xfrm>
        </p:grpSpPr>
        <p:pic>
          <p:nvPicPr>
            <p:cNvPr id="288" name="Rectangle 128" descr=""/>
            <p:cNvPicPr/>
            <p:nvPr/>
          </p:nvPicPr>
          <p:blipFill>
            <a:blip r:embed="rId5"/>
            <a:stretch/>
          </p:blipFill>
          <p:spPr>
            <a:xfrm>
              <a:off x="5499000" y="1085760"/>
              <a:ext cx="1438200" cy="34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559480" y="1122480"/>
              <a:ext cx="1316160" cy="32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128"/>
          <p:cNvGrpSpPr/>
          <p:nvPr/>
        </p:nvGrpSpPr>
        <p:grpSpPr>
          <a:xfrm>
            <a:off x="6797520" y="1096920"/>
            <a:ext cx="1451160" cy="3414600"/>
            <a:chOff x="6797520" y="1096920"/>
            <a:chExt cx="1451160" cy="3414600"/>
          </a:xfrm>
        </p:grpSpPr>
        <p:pic>
          <p:nvPicPr>
            <p:cNvPr id="291" name="Rectangle 128" descr=""/>
            <p:cNvPicPr/>
            <p:nvPr/>
          </p:nvPicPr>
          <p:blipFill>
            <a:blip r:embed="rId6"/>
            <a:stretch/>
          </p:blipFill>
          <p:spPr>
            <a:xfrm>
              <a:off x="6797520" y="1096920"/>
              <a:ext cx="145116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58000" y="1131840"/>
              <a:ext cx="132732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Rectangle 128"/>
          <p:cNvGrpSpPr/>
          <p:nvPr/>
        </p:nvGrpSpPr>
        <p:grpSpPr>
          <a:xfrm>
            <a:off x="5505480" y="1785960"/>
            <a:ext cx="633240" cy="3852720"/>
            <a:chOff x="5505480" y="1785960"/>
            <a:chExt cx="633240" cy="3852720"/>
          </a:xfrm>
        </p:grpSpPr>
        <p:pic>
          <p:nvPicPr>
            <p:cNvPr id="294" name="Rectangle 128" descr=""/>
            <p:cNvPicPr/>
            <p:nvPr/>
          </p:nvPicPr>
          <p:blipFill>
            <a:blip r:embed="rId7"/>
            <a:stretch/>
          </p:blipFill>
          <p:spPr>
            <a:xfrm>
              <a:off x="5505480" y="1785960"/>
              <a:ext cx="633240" cy="38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562720" y="1824120"/>
              <a:ext cx="515880" cy="37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Rectangle 128"/>
          <p:cNvGrpSpPr/>
          <p:nvPr/>
        </p:nvGrpSpPr>
        <p:grpSpPr>
          <a:xfrm>
            <a:off x="7626240" y="1749600"/>
            <a:ext cx="627120" cy="3902040"/>
            <a:chOff x="7626240" y="1749600"/>
            <a:chExt cx="627120" cy="3902040"/>
          </a:xfrm>
        </p:grpSpPr>
        <p:pic>
          <p:nvPicPr>
            <p:cNvPr id="297" name="Rectangle 128" descr=""/>
            <p:cNvPicPr/>
            <p:nvPr/>
          </p:nvPicPr>
          <p:blipFill>
            <a:blip r:embed="rId8"/>
            <a:stretch/>
          </p:blipFill>
          <p:spPr>
            <a:xfrm>
              <a:off x="7626240" y="1749600"/>
              <a:ext cx="627120" cy="39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688160" y="1785960"/>
              <a:ext cx="50652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Rectangle 128"/>
          <p:cNvGrpSpPr/>
          <p:nvPr/>
        </p:nvGrpSpPr>
        <p:grpSpPr>
          <a:xfrm>
            <a:off x="6022800" y="2889360"/>
            <a:ext cx="1706760" cy="2762280"/>
            <a:chOff x="6022800" y="2889360"/>
            <a:chExt cx="1706760" cy="2762280"/>
          </a:xfrm>
        </p:grpSpPr>
        <p:pic>
          <p:nvPicPr>
            <p:cNvPr id="300" name="Rectangle 128" descr=""/>
            <p:cNvPicPr/>
            <p:nvPr/>
          </p:nvPicPr>
          <p:blipFill>
            <a:blip r:embed="rId9"/>
            <a:stretch/>
          </p:blipFill>
          <p:spPr>
            <a:xfrm>
              <a:off x="6022800" y="2889360"/>
              <a:ext cx="170676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084720" y="2924280"/>
              <a:ext cx="158292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autoRev="1" fill="remov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animClr clrSpc="rgb">
                                      <p:cBhvr>
                                        <p:cTn id="105" dur="500" autoRev="1" fill="remov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06" dur="500" autoRev="1" fill="remov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8" nodeType="with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autoRev="1" fill="remov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animClr clrSpc="rgb">
                                      <p:cBhvr>
                                        <p:cTn id="110" dur="500" autoRev="1" fill="remov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11" dur="500" autoRev="1" fill="remov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7" nodeType="after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7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3750"/>
                            </p:stCondLst>
                            <p:childTnLst>
                              <p:par>
                                <p:cTn id="14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4750"/>
                            </p:stCondLst>
                            <p:childTnLst>
                              <p:par>
                                <p:cTn id="14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750"/>
                            </p:stCondLst>
                            <p:childTnLst>
                              <p:par>
                                <p:cTn id="15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6750"/>
                            </p:stCondLst>
                            <p:childTnLst>
                              <p:par>
                                <p:cTn id="15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775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1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175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375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425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7T13:47:02Z</dcterms:modified>
  <cp:revision>95</cp:revision>
  <dc:subject/>
  <dc:title>Prezentacja programu PowerPoint</dc:title>
</cp:coreProperties>
</file>